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7.gif" ContentType="image/gi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DFE-D994-4815-8D98-840D6D06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706-565F-4665-B6B8-EADA9979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93E-B847-433D-8159-FBBA7639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81E-B7C1-4EE7-9F4C-06B75149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3E5-414D-4FDA-82F4-B811C912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A9C-C4BE-4E2E-9136-F9B12A6B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15E-9CE8-4DA1-B9CA-FF564F4A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2E3-F93A-4AC0-86BF-720255D7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FC3-1F93-4F1D-8EDE-FDFE6813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E1D-EE9F-4E8C-85E1-43D6161D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C6D-7AC6-4761-AEF9-DE52C199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C01-DD4F-4E79-8AA2-B146B3E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76C2-F60E-4A5F-AF13-F3920C0C4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ity.waltham.ma.us/SCHOOL/WebPAge/tofc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Computer Clas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Keo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26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a sourc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2590920" cy="94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09720" cy="66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4724280"/>
            <a:ext cx="4724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ast resort with teachers per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752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Things that are different from Element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o e-mailing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WAZ UP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lank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657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Y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 Network Administrator at the High School can see all that you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tham Schoo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ty.waltham.ma.us/SCHOOL/WebPAge/tofc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cdevittschool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Media Ce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/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it/so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for not follow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FOOD IN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od or drink allowed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m or candy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72120" y="2263680"/>
            <a:ext cx="1190520" cy="85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1463760" cy="10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4952880"/>
            <a:ext cx="2438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n your own computer and keyboar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anging of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11300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651200" y="3938760"/>
          <a:ext cx="4032360" cy="21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393876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527200" cy="137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48320" y="4267080"/>
            <a:ext cx="17222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cceptable User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1070200">
            <a:off x="6248520" y="3733560"/>
            <a:ext cx="912600" cy="88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0" y="228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de by rules of AU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1033200" cy="103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107784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alking when teacher or classmate is speaking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ouch computer until directed to by teacher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directions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42000" y="2101680"/>
            <a:ext cx="1849320" cy="118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900000" cy="91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86200" y="4952880"/>
            <a:ext cx="2144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languag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@$!#%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be tole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n’t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Language should be used not IM abbr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TYL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OS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 LO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1103400" cy="1103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867280" y="1523880"/>
            <a:ext cx="1295640" cy="838440"/>
          </a:xfrm>
          <a:prstGeom prst="wedgeEllipseCallout">
            <a:avLst>
              <a:gd name="adj1" fmla="val -49388"/>
              <a:gd name="adj2" fmla="val 40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2590920"/>
            <a:ext cx="1447560" cy="761760"/>
          </a:xfrm>
          <a:prstGeom prst="wedgeEllipseCallout">
            <a:avLst>
              <a:gd name="adj1" fmla="val -36953"/>
              <a:gd name="adj2" fmla="val 77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2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Things I know about using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hings I would lik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Thing I would like to practice u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f the things we wi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of the Day (Microsoft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Parts and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and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5:32:13Z</dcterms:created>
  <dc:creator>keohanema</dc:creator>
  <dc:description/>
  <dc:language>en-US</dc:language>
  <cp:lastModifiedBy>Educational Technology</cp:lastModifiedBy>
  <dcterms:modified xsi:type="dcterms:W3CDTF">2007-02-02T19:51:01Z</dcterms:modified>
  <cp:revision>12</cp:revision>
  <dc:subject/>
  <dc:title>Welcome to Computer Clas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692502</vt:r8>
  </property>
  <property fmtid="{D5CDD505-2E9C-101B-9397-08002B2CF9AE}" pid="3" name="_AuthorEmail">
    <vt:lpwstr>Keohanema@k12.waltham.ma.us</vt:lpwstr>
  </property>
  <property fmtid="{D5CDD505-2E9C-101B-9397-08002B2CF9AE}" pid="4" name="_AuthorEmailDisplayName">
    <vt:lpwstr>Margaret Keohane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