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7.gif" ContentType="image/gif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C6F-81C6-4756-9C73-3EF5621F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3D5-D832-4EDF-B98A-98A6CD9C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A02-D2BA-4B0B-AE68-47CA772C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6E7-A484-459A-9A0C-FEC80B96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A09-F6D6-466E-B313-8DD65999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F22-2E1F-4822-A53C-2AD10A01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538-AE3E-4E00-B52B-B98ACE8F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742-7E6F-4CD0-9C9A-A70DD878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394-5A82-4126-92A8-CAE9C5A9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3C2-DE8B-4D7F-95B5-E05E7EB3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6C3-CC47-426B-93B7-92AD9BD0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A58-B4BF-439B-A608-4CA750CF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5B2F-413A-47CC-B5F9-4B902F2E2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ity.waltham.ma.us/SCHOOL/WebPAge/tofc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Computer Clas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Keo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 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Devitt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267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ot a source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2590920" cy="949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1809720" cy="66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33920" y="4724280"/>
            <a:ext cx="4724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last resort with teachers per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257800" y="3809880"/>
            <a:ext cx="1752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Things that are different from Elementar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No e-mailing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WAZ UP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lank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657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about You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he Network Administrator at the High School can see all that you are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3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tham School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ty.waltham.ma.us/SCHOOL/WebPAge/tofc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Devitt 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cdevittschool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Media Cen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brarytech.net/so/s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Technolo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brarytech.net/soit/soi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r 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oo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 for not follow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FOOD IN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ood or drink allowed i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m or candy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72120" y="2263680"/>
            <a:ext cx="1190520" cy="85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828800" y="4724280"/>
            <a:ext cx="1463760" cy="105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48320" y="4952880"/>
            <a:ext cx="24382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on your own computer and keyboar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anging of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11300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651200" y="3938760"/>
          <a:ext cx="4032360" cy="218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3938760"/>
                    <a:ext cx="4032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962520" y="2133720"/>
            <a:ext cx="2527200" cy="137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648320" y="4267080"/>
            <a:ext cx="17222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cceptable User Agre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by you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by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21070200">
            <a:off x="6248520" y="3733560"/>
            <a:ext cx="912600" cy="88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0" y="2286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ide by rules of AU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1033200" cy="1030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86200" y="2590920"/>
            <a:ext cx="107784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alking when teacher or classmate is speaking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touch computer until directed to by teacher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directions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42000" y="2101680"/>
            <a:ext cx="1849320" cy="1182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900000" cy="91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86200" y="4952880"/>
            <a:ext cx="21448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ppropriate language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@$!#%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be toler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n’t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 must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Language should be used not IM abbre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U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TTYL 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OS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 LOL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1103400" cy="1103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867280" y="1523880"/>
            <a:ext cx="1295640" cy="838440"/>
          </a:xfrm>
          <a:prstGeom prst="wedgeEllipseCallout">
            <a:avLst>
              <a:gd name="adj1" fmla="val -49388"/>
              <a:gd name="adj2" fmla="val 40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3200400"/>
            <a:ext cx="1027080" cy="102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05120" y="2590920"/>
            <a:ext cx="1447560" cy="761760"/>
          </a:xfrm>
          <a:prstGeom prst="wedgeEllipseCallout">
            <a:avLst>
              <a:gd name="adj1" fmla="val -36953"/>
              <a:gd name="adj2" fmla="val 77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2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Things I know about using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Things I would like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Thing I would like to practice u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f the things we wi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 of the Day (Microsoft W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Parts and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and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5:32:13Z</dcterms:created>
  <dc:creator>keohanema</dc:creator>
  <dc:description/>
  <dc:language>en-US</dc:language>
  <cp:lastModifiedBy>Educational Technology</cp:lastModifiedBy>
  <dcterms:modified xsi:type="dcterms:W3CDTF">2007-02-02T19:51:01Z</dcterms:modified>
  <cp:revision>12</cp:revision>
  <dc:subject/>
  <dc:title>Welcome to Computer Clas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8692502</vt:r8>
  </property>
  <property fmtid="{D5CDD505-2E9C-101B-9397-08002B2CF9AE}" pid="3" name="_AuthorEmail">
    <vt:lpwstr>Keohanema@k12.waltham.ma.us</vt:lpwstr>
  </property>
  <property fmtid="{D5CDD505-2E9C-101B-9397-08002B2CF9AE}" pid="4" name="_AuthorEmailDisplayName">
    <vt:lpwstr>Margaret Keohane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