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7.gif" ContentType="image/gi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C87-D46B-4E2B-9EA5-CB0CCA66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DE9-D640-4C5F-85E8-9D6401C1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F2D-F3E1-430F-806C-EB6CB4C4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918-0CBD-45E8-B8EE-C245FAD3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A15-769D-4EFF-BE1D-E373ACB0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638-54BA-493A-B673-1DB1A35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262-735D-4BDE-8112-936E5576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D6D-5E1D-4F28-A7AA-33E5282E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EAA-F308-4AA9-A2E9-FF5E7F7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494-7B4F-4FA3-BB46-8FFB643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A9B-E737-42FD-94E5-B9FEE2C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F3B-EE3E-4699-9819-1227C08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C68-998B-455B-98A1-FB6FA094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ity.waltham.ma.us/SCHOOL/WebPAge/tofc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Computer Clas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Keo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 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94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09720" cy="6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724280"/>
            <a:ext cx="4724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ast resort with teacher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752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ings that are different from Element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o e-mailing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Z UP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lank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657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Y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 Network Administrator at the High School can see all t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tham Scho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ty.waltham.ma.us/SCHOOL/WebPAge/tof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devittschool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Media Ce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/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it/so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not follow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FOOD IN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od or drink allowed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m or candy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72120" y="2263680"/>
            <a:ext cx="119052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46376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4952880"/>
            <a:ext cx="2438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n your own computer and keyboar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nging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1300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51200" y="3938760"/>
          <a:ext cx="403236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5272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267080"/>
            <a:ext cx="17222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ptable Us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1070200">
            <a:off x="6248520" y="3733560"/>
            <a:ext cx="912600" cy="8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de by rules of A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103320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0778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lking when teacher or classmate is speak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ouch computer until directed to by teacher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directions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2000" y="2101680"/>
            <a:ext cx="1849320" cy="118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90000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2144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languag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$!#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be tol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n’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Language should be used not IM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TYL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LO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1523880"/>
            <a:ext cx="1295640" cy="838440"/>
          </a:xfrm>
          <a:prstGeom prst="wedgeEllipseCallout">
            <a:avLst>
              <a:gd name="adj1" fmla="val -49388"/>
              <a:gd name="adj2" fmla="val 40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2590920"/>
            <a:ext cx="1447560" cy="761760"/>
          </a:xfrm>
          <a:prstGeom prst="wedgeEllipseCallout">
            <a:avLst>
              <a:gd name="adj1" fmla="val -36953"/>
              <a:gd name="adj2" fmla="val 7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Things I know about using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hings I would lik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Thing I would like to practice u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things we w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he Day (Microsoft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arts and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and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5:32:13Z</dcterms:created>
  <dc:creator>keohanema</dc:creator>
  <dc:description/>
  <dc:language>en-US</dc:language>
  <cp:lastModifiedBy>Educational Technology</cp:lastModifiedBy>
  <dcterms:modified xsi:type="dcterms:W3CDTF">2007-02-02T19:51:01Z</dcterms:modified>
  <cp:revision>12</cp:revision>
  <dc:subject/>
  <dc:title>Welcome to Computer Clas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2502</vt:r8>
  </property>
  <property fmtid="{D5CDD505-2E9C-101B-9397-08002B2CF9AE}" pid="3" name="_AuthorEmail">
    <vt:lpwstr>Keohanema@k12.waltham.ma.us</vt:lpwstr>
  </property>
  <property fmtid="{D5CDD505-2E9C-101B-9397-08002B2CF9AE}" pid="4" name="_AuthorEmailDisplayName">
    <vt:lpwstr>Margaret Keohane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