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2.gif" ContentType="image/gif"/>
  <Override PartName="/ppt/media/image8.wmf" ContentType="image/x-wmf"/>
  <Override PartName="/ppt/media/image17.gif" ContentType="image/gif"/>
  <Override PartName="/ppt/media/image16.png" ContentType="image/png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3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9421-3045-4EE1-A1D1-FE1C76438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2ADC-21CA-4258-831E-93C40E04D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5BEE-E578-487F-BEA6-7D05E8146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A9AF-3358-4011-9157-731FC8D86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DF4A-66CD-46D8-A420-153296B48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06BB-5226-4A2A-8E9C-EC56B1096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CE33-AAC7-460A-8783-2721DFFA6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BFB5-FDAA-4B03-8B22-6D622E823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2449-1372-4D3E-BB83-0B549377E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28B5-8435-4CD0-8D47-B2895BE6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9112-A350-46AB-AC49-98C4F899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C774-8498-43B0-B80E-861FBA8F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A3752-EFB3-4C4C-86B1-91D7BB2B0E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city.waltham.ma.us/SCHOOL/WebPAge/tofc.htm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lcome to Computer Class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s. Keoh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om 0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cDevitt Middle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2674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25905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not a source of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743200" y="304920"/>
            <a:ext cx="2590920" cy="9493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914400" y="1752480"/>
            <a:ext cx="1809720" cy="663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733920" y="4724280"/>
            <a:ext cx="47242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 last resort with teachers per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5257800" y="3809880"/>
            <a:ext cx="175248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roadway"/>
              </a:rPr>
              <a:t>Things that are different from Elementary Scho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676520" y="2209320"/>
            <a:ext cx="586728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No e-mailing fri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WAZ UP??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Blank desk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3657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nk about Your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23320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The Network Administrator at the High School can see all that you are do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410080" y="2743200"/>
            <a:ext cx="2286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3" dur="2000" fill="hold"/>
                                        <p:tgtEl>
                                          <p:spTgt spid="9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ltham School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ity.waltham.ma.us/SCHOOL/WebPAge/tofc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cDevitt Web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ool Inform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mcdevittschool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brary Media Cent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ibrarytech.net/so/so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al Technolog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ibrarytech.net/soit/soit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de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de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de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er Class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too diffic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be follow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equences for not following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7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77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77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77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" dur="77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 FOOD IN L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food or drink allowed in 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gum or candy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072120" y="2263680"/>
            <a:ext cx="1190520" cy="85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828800" y="4724280"/>
            <a:ext cx="1463760" cy="1057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648320" y="4952880"/>
            <a:ext cx="243828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bo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 on your own computer and keyboard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banging of k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447920" y="380880"/>
            <a:ext cx="1130040" cy="971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"/>
          <p:cNvGraphicFramePr/>
          <p:nvPr/>
        </p:nvGraphicFramePr>
        <p:xfrm>
          <a:off x="4651200" y="3938760"/>
          <a:ext cx="4032360" cy="2187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51200" y="3938760"/>
                    <a:ext cx="4032360" cy="21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3962520" y="2133720"/>
            <a:ext cx="2527200" cy="1377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4648320" y="4267080"/>
            <a:ext cx="1722240" cy="18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Acceptable User Agree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ed by you in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ed by your pa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 rot="21070200">
            <a:off x="6248520" y="3733560"/>
            <a:ext cx="912600" cy="887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286000" y="228600"/>
            <a:ext cx="525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bide by rules of AU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191120" y="5029200"/>
            <a:ext cx="1033200" cy="1030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3886200" y="2590920"/>
            <a:ext cx="1077840" cy="108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talking when teacher or classmate is speaking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touch computer until directed to by teacher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 directions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742000" y="2101680"/>
            <a:ext cx="1849320" cy="11829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257800" y="3886200"/>
            <a:ext cx="900000" cy="919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3886200" y="4952880"/>
            <a:ext cx="2144880" cy="15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appropriate language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@$!#%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not be toler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rmi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n’t 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ect Technolog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inology must be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ect Language should be used not IM abbrev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U   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TTYL  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POS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  LOL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B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0" y="1981080"/>
            <a:ext cx="1103400" cy="11034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867280" y="1523880"/>
            <a:ext cx="1295640" cy="838440"/>
          </a:xfrm>
          <a:prstGeom prst="wedgeEllipseCallout">
            <a:avLst>
              <a:gd name="adj1" fmla="val -49388"/>
              <a:gd name="adj2" fmla="val 4034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219320" y="3200400"/>
            <a:ext cx="1027080" cy="10270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905120" y="2590920"/>
            <a:ext cx="1447560" cy="761760"/>
          </a:xfrm>
          <a:prstGeom prst="wedgeEllipseCallout">
            <a:avLst>
              <a:gd name="adj1" fmla="val -36953"/>
              <a:gd name="adj2" fmla="val 7708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0" dur="20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-2-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Cla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Things I know about using technolo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Things I would like to lea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Thing I would like to practice us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f the things we wil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p of the Day (Microsoft Wor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r Parts and Termi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pi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-mail and Internet 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1" dur="2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7T15:32:13Z</dcterms:created>
  <dc:creator>keohanema</dc:creator>
  <dc:description/>
  <dc:language>en-US</dc:language>
  <cp:lastModifiedBy>Educational Technology</cp:lastModifiedBy>
  <dcterms:modified xsi:type="dcterms:W3CDTF">2007-02-02T19:51:01Z</dcterms:modified>
  <cp:revision>12</cp:revision>
  <dc:subject/>
  <dc:title>Welcome to Computer Class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78692502</vt:r8>
  </property>
  <property fmtid="{D5CDD505-2E9C-101B-9397-08002B2CF9AE}" pid="3" name="_AuthorEmail">
    <vt:lpwstr>Keohanema@k12.waltham.ma.us</vt:lpwstr>
  </property>
  <property fmtid="{D5CDD505-2E9C-101B-9397-08002B2CF9AE}" pid="4" name="_AuthorEmailDisplayName">
    <vt:lpwstr>Margaret Keohane</vt:lpwstr>
  </property>
  <property fmtid="{D5CDD505-2E9C-101B-9397-08002B2CF9AE}" pid="5" name="_EmailSubject">
    <vt:lpwstr/>
  </property>
  <property fmtid="{D5CDD505-2E9C-101B-9397-08002B2CF9AE}" pid="6" name="_ReviewingToolsShownOnce">
    <vt:lpwstr/>
  </property>
</Properties>
</file>