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7.gif" ContentType="image/gi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924-8397-4C42-BFE7-3411DBC7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C98-9FC4-4D1F-8DAA-D8957992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1F5-76D4-4CBC-9A26-35A67516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D68-1B17-46D2-A528-F48E8642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C9B-A7FE-45EB-8D41-B70FFEC2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492-5E5E-43A5-A474-A8B7413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C7D-BE78-4467-B737-6DA10A5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E48-6653-4B28-8AD3-34A4E13F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7B4-6291-42CF-9F01-1F79E044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6D9-C363-4AE8-AD73-8EDC18F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E1A-60E6-4C79-85AC-8F792BA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366-3DB0-49DF-8508-655B335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0266-E7D8-49DB-87D5-3A1E33C8C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ity.waltham.ma.us/SCHOOL/WebPAge/tofc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Computer Clas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Keo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 sourc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94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09720" cy="66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724280"/>
            <a:ext cx="4724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ast resort with teacher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752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ings that are different from Element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o e-mailing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AZ UP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lank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657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Y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 Network Administrator at the High School can see all t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tham Schoo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ty.waltham.ma.us/SCHOOL/WebPAge/tof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cdevittschool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Media Ce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/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it/so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not follow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FOOD IN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od or drink allowed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m or candy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72120" y="2263680"/>
            <a:ext cx="119052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463760" cy="10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4952880"/>
            <a:ext cx="2438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n your own computer and keyboar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nging of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1300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51200" y="3938760"/>
          <a:ext cx="4032360" cy="21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5272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267080"/>
            <a:ext cx="17222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ptable Us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1070200">
            <a:off x="6248520" y="3733560"/>
            <a:ext cx="912600" cy="8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de by rules of AU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1033200" cy="103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0778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lking when teacher or classmate is speak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ouch computer until directed to by teacher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directions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2000" y="2101680"/>
            <a:ext cx="1849320" cy="118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90000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2144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languag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$!#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be tol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n’t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Language should be used not IM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TYL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LO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67280" y="1523880"/>
            <a:ext cx="1295640" cy="838440"/>
          </a:xfrm>
          <a:prstGeom prst="wedgeEllipseCallout">
            <a:avLst>
              <a:gd name="adj1" fmla="val -49388"/>
              <a:gd name="adj2" fmla="val 40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2590920"/>
            <a:ext cx="1447560" cy="761760"/>
          </a:xfrm>
          <a:prstGeom prst="wedgeEllipseCallout">
            <a:avLst>
              <a:gd name="adj1" fmla="val -36953"/>
              <a:gd name="adj2" fmla="val 77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2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Things I know about using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hings I would lik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Thing I would like to practice u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the things we w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he Day (Microsoft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arts and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and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5:32:13Z</dcterms:created>
  <dc:creator>keohanema</dc:creator>
  <dc:description/>
  <dc:language>en-US</dc:language>
  <cp:lastModifiedBy>Educational Technology</cp:lastModifiedBy>
  <dcterms:modified xsi:type="dcterms:W3CDTF">2007-02-02T19:51:01Z</dcterms:modified>
  <cp:revision>12</cp:revision>
  <dc:subject/>
  <dc:title>Welcome to Computer Clas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692502</vt:r8>
  </property>
  <property fmtid="{D5CDD505-2E9C-101B-9397-08002B2CF9AE}" pid="3" name="_AuthorEmail">
    <vt:lpwstr>Keohanema@k12.waltham.ma.us</vt:lpwstr>
  </property>
  <property fmtid="{D5CDD505-2E9C-101B-9397-08002B2CF9AE}" pid="4" name="_AuthorEmailDisplayName">
    <vt:lpwstr>Margaret Keohane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