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7CD32-B3DF-49A9-96E4-2357BA163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556FD-58DA-4EA0-A32B-646BF5C96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9832D-E746-4F90-B46F-FC870745B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9AF11-50E0-414D-A967-1AB94001C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CD54A-0B11-4363-BCD4-173655747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EB503-EDD3-4463-AB6A-38A17E373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F5DB-E124-4357-AB0A-BC9DD0824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EE8B7-2E63-411D-8AAB-F8151E20C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613EC-F62C-434E-A546-2ACDA8CA9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00BDC-591C-43D4-8EEC-2AEF628B7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64363-AC5F-40AB-998F-DBA450163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DC97F-8B9F-4322-B02D-96FE26CE8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28D2-3017-4702-AFA0-B96D7E01A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netsmartz.org/stories/friendship.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prah.com/oprahshow/Kelly-and-John-Halligan-Share-Their-Son-Ryans-Story-Video"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etsmartz.org/stories/angela.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etsmartz.org/stories/canttake.htm" TargetMode="Externa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netsmartz.org/stories/friendship.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netsmartz.org/stories/keisha.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Spring 2010</a:t>
            </a:r>
            <a:endParaRPr b="0" lang="en-US" sz="5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2" name=""/>
          <p:cNvSpPr txBox="1"/>
          <p:nvPr/>
        </p:nvSpPr>
        <p:spPr>
          <a:xfrm>
            <a:off x="1828800" y="1600200"/>
            <a:ext cx="518148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yber Bully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 a Good Frien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friendship.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Arial"/>
              </a:rPr>
              <a:t>Protect Yourself</a:t>
            </a:r>
            <a:endParaRPr b="0" lang="en-US" sz="4400" spc="-1" strike="noStrike">
              <a:solidFill>
                <a:srgbClr val="000000"/>
              </a:solidFill>
              <a:latin typeface="Arial"/>
            </a:endParaRPr>
          </a:p>
        </p:txBody>
      </p:sp>
      <p:sp>
        <p:nvSpPr>
          <p:cNvPr id="62"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ever provide any information or images in electronic form that could be used against you.</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Arial"/>
              </a:rPr>
              <a:t>Examine how you are communicating. </a:t>
            </a:r>
            <a:r>
              <a:rPr b="0" lang="en-US" sz="2400" spc="-1" strike="noStrike">
                <a:solidFill>
                  <a:srgbClr val="ffff99"/>
                </a:solidFill>
                <a:latin typeface="Arial"/>
              </a:rPr>
              <a:t>If you find that people are frequently attacking you, look closely at how you are communicating with them. You might be communicating in a way that is irritating others or hurting their feeling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Arial"/>
              </a:rPr>
              <a:t>Find some new friends. </a:t>
            </a:r>
            <a:r>
              <a:rPr b="0" lang="en-US" sz="2400" spc="-1" strike="noStrike">
                <a:solidFill>
                  <a:srgbClr val="ffff99"/>
                </a:solidFill>
                <a:latin typeface="Arial"/>
              </a:rPr>
              <a:t>If you are trying to fit into a group o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eople who are treating you badly, it might be easier to simpl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nd some nicer friends. Life’s too short to waste time trying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be friends with mean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on’t Give Power to Bullies</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6840" y="1645920"/>
            <a:ext cx="84582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ullies want to achieve power and be seen by others as strong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nd better. If you lose your cool or respond in another way th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hows lack of strength, a bully can boast about it to others—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ill probably keep bullying you. So the key to handling bullies 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o stay calm and not make it fun to harass you. The Internet c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ctually help you if you are the target of bullying. If you are bulli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online, you have several advantag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No one can see your initial reaction. If you do lose your c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hich is natural and normal, no one will ever know—as long 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keep your hands off the keyboard until you calm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Internet communications are delayed. If you choose to respo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can take the time to write a calm, strong, assertive respon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can even show your response to others to get feedb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efore you send it.</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99"/>
                </a:solidFill>
                <a:latin typeface="Arial"/>
              </a:rPr>
              <a:t>A Very Important Rule</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ver retaliate! A bully wants you to get upset. If you get mad and strike back in an attempt to hurt the bully as badly as you were hurt, it just won’t work. No matter what you think of, all it does is give the bully a “win.” It makes you look bad. You could also set yourself up for trouble. People who see your post may think you are the one who is causing the problem, not the bully. If someone shows your message to an adult, you could be the one who gets into trouble.</a:t>
            </a:r>
            <a:endParaRPr b="0" lang="en-US" sz="3200" spc="-1" strike="noStrike">
              <a:solidFill>
                <a:srgbClr val="000000"/>
              </a:solidFill>
              <a:latin typeface="Arial"/>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ourc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tSmartz.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opcyberbullying.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afe.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99"/>
                </a:solidFill>
                <a:latin typeface="Arial"/>
              </a:rPr>
              <a:t>Ryan’s Story</a:t>
            </a:r>
            <a:endParaRPr b="0" lang="en-US" sz="7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Vide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7200"/>
            <a:ext cx="807696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yber bullying, which is sometimes referred to as online social cruelty or electronic bullying, can involve: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228600" y="2742840"/>
            <a:ext cx="8229600" cy="376380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nding mean, vulgar, or threatening messages or imag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osting sensitive, private information about another pers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tending to be someone else in order to make that person look b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ntionally excluding someone from an online group. (Willard, 200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hildren and youth can cyber bully each other through: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mail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stant messaging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ext or digital imaging messages sent on cell phone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eb page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log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hat rooms or discussion group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ther information communication technolo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ow to Handle Being Cyber Bullied</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angela.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king Good Decisions</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canttake.ht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e Trustworth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friendship.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ealous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keisha.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3:21:09Z</dcterms:created>
  <dc:creator>Educational Technology</dc:creator>
  <dc:description/>
  <dc:language>en-US</dc:language>
  <cp:lastModifiedBy>Educational Technology</cp:lastModifiedBy>
  <dcterms:modified xsi:type="dcterms:W3CDTF">2010-03-31T13:23:14Z</dcterms:modified>
  <cp:revision>10</cp:revision>
  <dc:subject/>
  <dc:title>Slide 1</dc:title>
</cp:coreProperties>
</file>