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6259F-9690-41D4-B9EC-9B5D403BE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FA4CD-4D90-4845-AA5D-74E6679DB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C456E-6E4E-4FB1-8687-7EA1BF1CA7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375D73-E9D7-42FC-AD51-98CFB8AFF8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3453D-9057-45D7-918C-4A349BAF5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6FC38-99E5-43EB-A8BD-6C387C882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5BA42-C5A9-441E-A684-14499DD4F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1C977-C1AC-413B-91AD-0058AB098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60A49-51C1-49D6-B487-9F2FD2495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E7B5A-4C7F-4B70-A77C-9DE509146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DC4BD-C52E-45D1-96D4-4895BA90A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F41AC-4126-440E-8B78-F3B48A9C8D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A1B39-4DF5-4C7E-8CED-B774BCB18C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netsmartz.org/stories/friendship.ht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oprah.com/oprahshow/Kelly-and-John-Halligan-Share-Their-Son-Ryans-Story-Video"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netsmartz.org/stories/angela.htm"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netsmartz.org/stories/canttake.htm" TargetMode="External"/><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hyperlink" Target="http://www.netsmartz.org/stories/friendship.htm"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netsmartz.org/stories/keisha.ht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Spring 2010</a:t>
            </a:r>
            <a:endParaRPr b="0" lang="en-US" sz="5400" spc="-1" strike="noStrike">
              <a:solidFill>
                <a:srgbClr val="000000"/>
              </a:solidFill>
              <a:latin typeface="Arial"/>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2" name=""/>
          <p:cNvSpPr txBox="1"/>
          <p:nvPr/>
        </p:nvSpPr>
        <p:spPr>
          <a:xfrm>
            <a:off x="1828800" y="1600200"/>
            <a:ext cx="5181480" cy="1905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Cyber Bullying</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 a Good Friend</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netsmartz.org/stories/friendship.h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99"/>
                </a:solidFill>
                <a:latin typeface="Arial"/>
              </a:rPr>
              <a:t>Protect Yourself</a:t>
            </a:r>
            <a:endParaRPr b="0" lang="en-US" sz="4400" spc="-1" strike="noStrike">
              <a:solidFill>
                <a:srgbClr val="000000"/>
              </a:solidFill>
              <a:latin typeface="Arial"/>
            </a:endParaRPr>
          </a:p>
        </p:txBody>
      </p:sp>
      <p:sp>
        <p:nvSpPr>
          <p:cNvPr id="62"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Never provide any information or images in electronic form that could be used against you.</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Arial"/>
              </a:rPr>
              <a:t>Examine how you are communicating. </a:t>
            </a:r>
            <a:r>
              <a:rPr b="0" lang="en-US" sz="2400" spc="-1" strike="noStrike">
                <a:solidFill>
                  <a:srgbClr val="ffff99"/>
                </a:solidFill>
                <a:latin typeface="Arial"/>
              </a:rPr>
              <a:t>If you find that people are frequently attacking you, look closely at how you are communicating with them. You might be communicating in a way that is irritating others or hurting their feeling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Arial"/>
              </a:rPr>
              <a:t>Find some new friends. </a:t>
            </a:r>
            <a:r>
              <a:rPr b="0" lang="en-US" sz="2400" spc="-1" strike="noStrike">
                <a:solidFill>
                  <a:srgbClr val="ffff99"/>
                </a:solidFill>
                <a:latin typeface="Arial"/>
              </a:rPr>
              <a:t>If you are trying to fit into a group of</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people who are treating you badly, it might be easier to simpl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find some nicer friends. Life’s too short to waste time trying t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be friends with mean peo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Don’t Give Power to Bullies</a:t>
            </a:r>
            <a:br>
              <a:rPr sz="4000"/>
            </a:br>
            <a:endParaRPr b="0" lang="en-US" sz="4000" spc="-1" strike="noStrike">
              <a:solidFill>
                <a:srgbClr val="000000"/>
              </a:solidFill>
              <a:latin typeface="Arial"/>
            </a:endParaRPr>
          </a:p>
        </p:txBody>
      </p:sp>
      <p:sp>
        <p:nvSpPr>
          <p:cNvPr id="64" name="PlaceHolder 2"/>
          <p:cNvSpPr>
            <a:spLocks noGrp="1"/>
          </p:cNvSpPr>
          <p:nvPr>
            <p:ph/>
          </p:nvPr>
        </p:nvSpPr>
        <p:spPr>
          <a:xfrm>
            <a:off x="456840" y="1645920"/>
            <a:ext cx="8458200" cy="52117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Bullies want to achieve power and be seen by others as strong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and better. If you lose your cool or respond in another way th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hows lack of strength, a bully can boast about it to others—an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will probably keep bullying you. So the key to handling bullies i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o stay calm and not make it fun to harass you. The Internet ca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actually help you if you are the target of bullying. If you are bulli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online, you have several advantag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No one can see your initial reaction. If you do lose your coo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which is natural and normal, no one will ever know—as long 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you keep your hands off the keyboard until you calm dow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Internet communications are delayed. If you choose to respon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you can take the time to write a calm, strong, assertive respons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You can even show your response to others to get feedba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before you send it.</a:t>
            </a:r>
            <a:endParaRPr b="0" lang="en-US" sz="20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99"/>
                </a:solidFill>
                <a:latin typeface="Arial"/>
              </a:rPr>
              <a:t>A Very Important Rule</a:t>
            </a:r>
            <a:br>
              <a:rPr sz="4000"/>
            </a:b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Never retaliate! A bully wants you to get upset. If you get mad and strike back in an attempt to hurt the bully as badly as you were hurt, it just won’t work. No matter what you think of, all it does is give the bully a “win.” It makes you look bad. You could also set yourself up for trouble. People who see your post may think you are the one who is causing the problem, not the bully. If someone shows your message to an adult, you could be the one who gets into trouble.</a:t>
            </a:r>
            <a:endParaRPr b="0" lang="en-US" sz="3200" spc="-1" strike="noStrike">
              <a:solidFill>
                <a:srgbClr val="000000"/>
              </a:solidFill>
              <a:latin typeface="Arial"/>
            </a:endParaRPr>
          </a:p>
          <a:p>
            <a:pPr marL="3326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ource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NetSmartz.or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topcyberbullying.or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safe.or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99"/>
                </a:solidFill>
                <a:latin typeface="Arial"/>
              </a:rPr>
              <a:t>Ryan’s Story</a:t>
            </a:r>
            <a:endParaRPr b="0" lang="en-US" sz="72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Vide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457200"/>
            <a:ext cx="807696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Cyber bullying, which is sometimes referred to as online social cruelty or electronic bullying, can involve: </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228600" y="2742840"/>
            <a:ext cx="8229600" cy="3763800"/>
          </a:xfrm>
          <a:prstGeom prst="rect">
            <a:avLst/>
          </a:prstGeom>
          <a:noFill/>
          <a:ln w="0">
            <a:noFill/>
          </a:ln>
        </p:spPr>
        <p:txBody>
          <a:bodyPr lIns="90000" rIns="90000" tIns="46800" bIns="46800" anchor="t">
            <a:normAutofit/>
          </a:bodyPr>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nding mean, vulgar, or threatening messages or imag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osting sensitive, private information about another pers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etending to be someone else in order to make that person look ba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ntentionally excluding someone from an online group. (Willard, 2005)</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Children and youth can cyber bully each other through: </a:t>
            </a: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Emails </a:t>
            </a:r>
            <a:endParaRPr b="0" lang="en-US" sz="2800" spc="-1" strike="noStrike">
              <a:solidFill>
                <a:srgbClr val="000000"/>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nstant messaging </a:t>
            </a:r>
            <a:endParaRPr b="0" lang="en-US" sz="2800" spc="-1" strike="noStrike">
              <a:solidFill>
                <a:srgbClr val="000000"/>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ext or digital imaging messages sent on cell phones </a:t>
            </a:r>
            <a:endParaRPr b="0" lang="en-US" sz="2800" spc="-1" strike="noStrike">
              <a:solidFill>
                <a:srgbClr val="000000"/>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eb pages </a:t>
            </a:r>
            <a:endParaRPr b="0" lang="en-US" sz="2800" spc="-1" strike="noStrike">
              <a:solidFill>
                <a:srgbClr val="000000"/>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Blogs </a:t>
            </a:r>
            <a:endParaRPr b="0" lang="en-US" sz="2800" spc="-1" strike="noStrike">
              <a:solidFill>
                <a:srgbClr val="000000"/>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Chat rooms or discussion groups </a:t>
            </a:r>
            <a:endParaRPr b="0" lang="en-US" sz="2800" spc="-1" strike="noStrike">
              <a:solidFill>
                <a:srgbClr val="000000"/>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Other information communication technolog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How to Handle Being Cyber Bullied</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netsmartz.org/stories/angela.ht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Making Good Decisions</a:t>
            </a:r>
            <a:endParaRPr b="0" lang="en-US" sz="4400" spc="-1" strike="noStrike">
              <a:solidFill>
                <a:srgbClr val="000000"/>
              </a:solidFill>
              <a:latin typeface="Arial"/>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netsmartz.org/stories/canttake.htm</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Be Trustworthy</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netsmartz.org/stories/friendship.h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Jealousy</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netsmartz.org/stories/keisha.h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2T13:21:09Z</dcterms:created>
  <dc:creator>Educational Technology</dc:creator>
  <dc:description/>
  <dc:language>en-US</dc:language>
  <cp:lastModifiedBy>Educational Technology</cp:lastModifiedBy>
  <dcterms:modified xsi:type="dcterms:W3CDTF">2010-03-31T13:23:14Z</dcterms:modified>
  <cp:revision>10</cp:revision>
  <dc:subject/>
  <dc:title>Slide 1</dc:title>
</cp:coreProperties>
</file>