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CE6-E84E-4E47-A050-AE081832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D76-6A5F-4207-9786-F7F5B8F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7A8-77E9-4F60-9C43-43401719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434-2BDA-48C7-BD97-7BF05D55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C87D0-06F7-49A9-9294-0D23E770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098C-E71A-4CAA-97AF-5C917AEB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2D741-20E8-49D8-85B6-54BF5BD0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5CEC-C557-4FB2-9279-D96D177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BC56-0793-4016-A46E-1782767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70095-8E55-4F5D-8A33-596550A3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2986F-0F13-4127-BBA3-0B87B69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527-BE93-479F-A35B-EC124707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EA05-FAD7-4ABD-A0F8-BD0984A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9532-2472-407E-813C-171990D3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8E3B0-3606-4C8F-8A1F-941AC0A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AB1C3-B9F5-49E0-856C-EDBD7080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DD563-539F-42E0-A504-C3E38392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F72-F2C4-40DD-B3AF-1B8BE7C0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6C6-6AE3-4263-8C07-8A3FA842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1FD-91FA-4847-B9F1-6E27F83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720-8674-4092-907C-8A9E7D7B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7FA-8D3D-4A3E-8AE7-612585C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410-A5AD-4E8A-9B92-C7142DF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403-5CF1-4C2D-A3A4-2A280BCE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F4D6-DEEA-4737-958F-CDDF2AD26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CF53-B7DF-4088-965F-45DA16CB6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Netwo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tips so you can be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social networking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a website to connect with people who share personal or professional interests, place of origin, education ate a particular school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stay safe on the interne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only invite people you know inside and outside of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 a parent or guardian even if you think the person is really a k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chat only with friends and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never have a photo of a city you live in or a school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on’t have any family pho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o post about yoursel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n’t tell them what school you go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r name or your families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you must do when someone makes you uncomfortab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person makes you uncomfortable you save the image and tell a parent so that they know that you are getting bullied off the internet then your parents can take over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by J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al Technology</cp:lastModifiedBy>
  <dcterms:modified xsi:type="dcterms:W3CDTF">2010-01-26T13:54:42Z</dcterms:modified>
  <cp:revision>4</cp:revision>
  <dc:subject/>
  <dc:title>PowerPoint Presentation</dc:title>
</cp:coreProperties>
</file>