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AB5B-B6AB-43EA-A3F5-A57FF70E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E3F-5B4B-4B42-8728-B5679AFC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BA4-3DA6-4E6D-8213-366B9171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F34-F49F-4F89-8FCF-E69B0C72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91492-8C5C-49DE-8F16-C904D260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7C44C-1D39-4445-BBAE-3EEC1105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6B2EC-1DE4-4FDC-9F79-1B029F88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06710-413F-4464-B8E5-C7DB1DE7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560C5-BF12-4578-AE61-3ECA2716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B1A8A-58EF-49E5-9507-81856FFD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F93EB-3E25-4EFB-BC80-5DEDE088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DD7-F313-404C-BFB1-5C31B0C6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3C991-0889-4C9A-981D-026BC3E3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B2CBC-69CC-4FF2-94C1-2FA84283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19BD2-A037-498B-B216-64B59F15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E6B92-B96A-43BC-9336-4F1D2282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16969-06C1-4E95-9EDA-06BBCACD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1F2-49CE-4260-9059-5AED6D64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48B-11CE-45FA-9654-4F409EB6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0D2-77E1-45A6-A55C-059CDE52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197-EF92-43E3-9EAC-7F7B72C6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06B-AE9C-4AB5-8D5A-B1ECB036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CCD-B261-4609-85D9-FE29AD86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BB1-8856-484F-88F4-69570FDD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F89D-BCA2-4BA1-A54E-E7EFE602A9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F896-F1BC-4B27-B51B-65C9EEFF34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cial Networ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are some tips so you can be sa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social networking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e of a website to connect with people who share personal or professional interests, place of origin, education ate a particular school, et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stay safe on the interne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only invite people you know inside and outside of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-1645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ct a parent or guardian even if you think the person is really a k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-1645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chat only with friends and fam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-16452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tu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never have a photo of a city you live in or a school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don’t have any family phot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to post about yourself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n’t tell them what school you go 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your name or your families n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you must do when someone makes you uncomfortabl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 person makes you uncomfortable you save the image and tell a parent so that they know that you are getting bullied off the internet then your parents can take over!!!!!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ry by Ja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al Technology</cp:lastModifiedBy>
  <dcterms:modified xsi:type="dcterms:W3CDTF">2010-01-26T13:54:42Z</dcterms:modified>
  <cp:revision>4</cp:revision>
  <dc:subject/>
  <dc:title>PowerPoint Presentation</dc:title>
</cp:coreProperties>
</file>