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E18-8C3B-417E-8AB7-323958F4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8B5-1C7B-475C-976F-F107A6CB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DD3-1619-4812-B7C9-DF95D587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B64-DA23-4529-9AF5-E4FCA40F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57036-6E32-408B-986C-DC5630CD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EAFC5-692E-4B1D-BBBB-53E6FC7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B745A-3803-4A8A-92FC-7BF90D03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D9F94-5018-4840-8DF0-A5E54E73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CC6A3-B798-43D4-A3A5-96017BA5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D82C1-DD13-42C2-B35B-35BD68D1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820F-971C-4DC0-9A86-E49C464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59A-820C-4A40-8691-648EFFBE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C563-F9FC-45C8-8008-4F20CD7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D6BE5-2A96-4FED-BDEC-2692925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01016-EB52-4DD7-8E29-165BA1D6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3FBC7-A97D-416D-A834-70A27054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EE259-1163-46D2-B671-CE1D849E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899-6D43-4399-B9A5-DED4A72D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B60-D58A-4609-8424-267E97A2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EC8-2672-48D4-887B-10896ADC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2AC-CCD1-417A-9898-B043A78A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060-2F3E-4B81-B496-E0BFB64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61E-9C39-46F3-AE9C-2D1BE8AF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027-D69C-4D49-8AF5-362BD06D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8A04-EA71-4092-9A66-310D123E3C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9EB7-4863-4306-AEA9-4A4653C8A5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al Networ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tips so you can be sa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social networking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a website to connect with people who share personal or professional interests, place of origin, education ate a particular school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stay safe on the interne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only invite people you know inside and outside of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ct a parent or guardian even if you think the person is really a k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chat only with friends and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never have a photo of a city you live in or a school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on’t have any family pho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to post about yourself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n’t tell them what school you go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your name or your families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you must do when someone makes you uncomfortabl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person makes you uncomfortable you save the image and tell a parent so that they know that you are getting bullied off the internet then your parents can take over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y by J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al Technology</cp:lastModifiedBy>
  <dcterms:modified xsi:type="dcterms:W3CDTF">2010-01-26T13:54:42Z</dcterms:modified>
  <cp:revision>4</cp:revision>
  <dc:subject/>
  <dc:title>PowerPoint Presentation</dc:title>
</cp:coreProperties>
</file>