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D5D-B91D-4F1C-AD27-BCDDB266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379-4D01-483A-A3AA-668E475A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FA7-1B6A-4941-9775-3F84DFB3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AC0-3077-4218-B6F7-84F3494A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83495-F200-41F2-B31D-294BA743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CCCFA-546C-4A5D-823A-4D5BAD0E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5DFF3-9A04-40C9-A454-A10D8CF4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82ABF-6F79-4EFC-ACB1-4769CF55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C585F-F652-4FAF-9393-7D94E20D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6AAA5-544B-46A0-9803-C7D31151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1304D-0884-47A7-913E-798E3C37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FDCA-36B3-45FA-84F1-76C02ADF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3A3A6-3318-4D28-AF19-73F9B013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6C261-851A-4735-A1C8-AE3DD496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9A26D-4DCC-453E-A83B-C95C8CFB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03871-D82B-485F-82E1-9224045D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2AE17-8BA6-4A98-8EA5-AF148132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B055-692A-45BF-B39C-BEFA51F5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F36-2298-431B-84E8-B14A4EC3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53C-3379-4CFF-B2F5-76557B99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3A0-A867-46E7-8A9E-218FFA42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8A1-5904-4DED-BE7A-345E3240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2DC-B98D-460D-A69C-FC71BAE4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F55-F504-4CF7-B7FA-A2E2B3BD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38B7-F893-408D-93FA-4481E7637B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F47B-AD56-4D42-B787-38E0A40FA3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cial Networ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are some tips so you can be sa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social networking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e of a website to connect with people who share personal or professional interests, place of origin, education ate a particular school, et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stay safe on the interne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only invite people you know inside and outside of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-1645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ct a parent or guardian even if you think the person is really a k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-1645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chat only with friends and fam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-16452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tu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never have a photo of a city you live in or a school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don’t have any family phot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to post about yourself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n’t tell them what school you go 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your name or your families n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you must do when someone makes you uncomfortabl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 person makes you uncomfortable you save the image and tell a parent so that they know that you are getting bullied off the internet then your parents can take over!!!!!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ry by Ja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al Technology</cp:lastModifiedBy>
  <dcterms:modified xsi:type="dcterms:W3CDTF">2010-01-26T13:54:42Z</dcterms:modified>
  <cp:revision>4</cp:revision>
  <dc:subject/>
  <dc:title>PowerPoint Presentation</dc:title>
</cp:coreProperties>
</file>