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2E866-F5AA-4143-9854-1C3A6BA8A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3D898-A4A0-4701-9B61-49CDC7A0C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051D2-5AAE-45C6-8110-5415D0422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073C6-D62C-47D3-A807-92C9AF198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08339-3326-4436-8340-1F1136071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7B059-82C8-49AF-9A04-149E4BE17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23B6F-6F8F-4111-83C0-352780FD8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45068-2EA0-421F-8013-58E041C61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DCE18-5528-47B2-8EC7-B81C6EAAB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B6EB1-94FA-4BA2-9C52-EEDE0095E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D6C78-DDD1-4A85-8985-0216A6250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B919-05B7-4AF2-AEF0-39019E81B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8DAA5-824A-4804-9CE4-63436E8D0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A9D32-C7A0-4AD1-8C48-71A484E77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B0D47-3CE1-4520-8825-70031760F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F117E-A83A-4525-A922-45B99F6466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64165-CADA-4BD3-9C50-4A06CD5A6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BD47-B6DB-4AF8-BAE9-8C9443720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F49B4-FE76-4DB6-ACCB-6A23E7F68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C758-406C-42CE-BF82-75B23FB0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5C1BA-F597-4C23-9F21-6C3E416C1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760E3-A6C3-41D4-BE5A-1D85AC785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BB01-BBC9-4454-B211-DC633D266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0AFF-567B-4BBC-AFA3-98046F4DE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5973-F118-48BA-9C8C-F18C6B52E0D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3509-CE60-4BA4-AF5C-D9ECBCD2C3D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25909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Keyboarding Is It a Basic Skill for the 21</a:t>
            </a:r>
            <a:r>
              <a:rPr b="0" lang="en-US" sz="4400" spc="-1" strike="noStrike" baseline="30000">
                <a:solidFill>
                  <a:srgbClr val="ff0000"/>
                </a:solidFill>
                <a:latin typeface="Comic Sans MS"/>
              </a:rPr>
              <a:t>st</a:t>
            </a:r>
            <a:r>
              <a:rPr b="0" lang="en-US" sz="4400" spc="-1" strike="noStrike">
                <a:solidFill>
                  <a:srgbClr val="ff0000"/>
                </a:solidFill>
                <a:latin typeface="Comic Sans MS"/>
              </a:rPr>
              <a:t> Centur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47560" y="563832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ggy Keohane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sis project</a:t>
            </a:r>
            <a:endParaRPr b="0" lang="en-US" sz="2800" spc="-1" strike="noStrike">
              <a:solidFill>
                <a:srgbClr val="000000"/>
              </a:solidFill>
              <a:latin typeface="Comic Sans MS"/>
            </a:endParaRPr>
          </a:p>
        </p:txBody>
      </p:sp>
      <p:sp>
        <p:nvSpPr>
          <p:cNvPr id="153" name=""/>
          <p:cNvSpPr/>
          <p:nvPr/>
        </p:nvSpPr>
        <p:spPr>
          <a:xfrm>
            <a:off x="60948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Image:Qwerty.svg"/>
          <p:cNvPicPr/>
          <p:nvPr/>
        </p:nvPicPr>
        <p:blipFill>
          <a:blip r:embed="rId1"/>
          <a:stretch/>
        </p:blipFill>
        <p:spPr>
          <a:xfrm>
            <a:off x="4952880" y="457200"/>
            <a:ext cx="3657600" cy="17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native Schedule</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ntative Schedule</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2007 First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ne 2007 Revised Proposal</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uly 2007- August  complete readings literature review of all reading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btain data need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2007 interviews, obtain and organize data</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tober- Dec 2007 work on first draft organize and form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2008 Present first draf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anuary – March, 2008 Revisions as necessar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ril 1, 2008 Submit final thes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Methods:  </a:t>
            </a:r>
            <a:br>
              <a:rPr sz="4400"/>
            </a:br>
            <a:endParaRPr b="0" lang="en-US" sz="4400" spc="-1" strike="noStrike">
              <a:solidFill>
                <a:srgbClr val="000000"/>
              </a:solidFill>
              <a:latin typeface="Comic Sans MS"/>
            </a:endParaRPr>
          </a:p>
        </p:txBody>
      </p:sp>
      <p:sp>
        <p:nvSpPr>
          <p:cNvPr id="174" name="PlaceHolder 2"/>
          <p:cNvSpPr>
            <a:spLocks noGrp="1"/>
          </p:cNvSpPr>
          <p:nvPr>
            <p:ph/>
          </p:nvPr>
        </p:nvSpPr>
        <p:spPr>
          <a:xfrm>
            <a:off x="685800" y="1143000"/>
            <a:ext cx="769608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Data from Typing program of students’ keyboarding level attained:  Is there a pattern within my school and the feeder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 Data from interviews and student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 Interview teachers at middle school, elementary school, high school, and principal, mayor, superintendent some first year college students about the importance of keyboarding skills as a stepping stone to attaining technology skill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Have my students interview these same people after obtaining the survey about the importance of keyboarding and how it has helped them become successful in their life.  Students will write essay or will ask questions in a discussion forum or blog.</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 Teachers will be re=interviewed about the importance of keyboarding after students have completed their project.</a:t>
            </a: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 Data from different school systems:  that has keyboarding implemented into the curriculum on success rate of student use of technology. Look at students of different classes, socio-economic levels, see if there is a patter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 Interview schools with keyboarding curriculum In plac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 Data from MCAS Reading Language Arts Scores from schools with keyboarding instruction in curriculu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Limitations:</a:t>
            </a:r>
            <a:br>
              <a:rPr sz="4400"/>
            </a:b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amount of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t keep population smal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llowing books to be reviewed:</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y With Words: Language, Life and work in Communities and Classrooms by Shirley Brice Heath</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Peoples Children: Cultural Conflict in the Classroom by Lisa Delpi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deals with at-risk students, cultural differences of students written by and African American female educator.  She stresses that teachers need to know their students cultures to understand and help their student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to Labor: How Working Class Kids Get Working Class Jobs  Paul Willi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bliography</a:t>
            </a:r>
            <a:br>
              <a:rPr sz="3200"/>
            </a:br>
            <a:r>
              <a:rPr b="0" lang="en-US" sz="3200" spc="-1" strike="noStrike">
                <a:solidFill>
                  <a:srgbClr val="000000"/>
                </a:solidFill>
                <a:latin typeface="Comic Sans MS"/>
              </a:rPr>
              <a:t>Keyboarding Articles Reviewed:</a:t>
            </a:r>
            <a:r>
              <a:rPr b="0" lang="en-US" sz="4000" spc="-1" strike="noStrike">
                <a:solidFill>
                  <a:srgbClr val="000000"/>
                </a:solidFill>
                <a:latin typeface="Comic Sans MS"/>
              </a:rPr>
              <a:t> </a:t>
            </a:r>
            <a:br>
              <a:rPr sz="4000"/>
            </a:br>
            <a:endParaRPr b="0" lang="en-US" sz="4000" spc="-1" strike="noStrike">
              <a:solidFill>
                <a:srgbClr val="000000"/>
              </a:solidFill>
              <a:latin typeface="Comic Sans MS"/>
            </a:endParaRPr>
          </a:p>
        </p:txBody>
      </p:sp>
      <p:sp>
        <p:nvSpPr>
          <p:cNvPr id="180"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es of Development of Keyboarding Skillsin Elementary School Aged Children With and Without Identified Learning Disabilit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art Pisha Doctoral dissertatio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Comparison of Effect of Teacher-Directed Instruction and Interactive Touch-Keyboarding Skills in Two Sixth-Grade Classe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aster degree thesis by Irene Russ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 Head: Preparing the Modern Workforce:Computer Competance defined for 2000 and beyond</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aniel Norris and Roger Yin</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ing Touch- Keyboarding Skills in the Middle School Student: "Keywords" vs "Type to Learn," Hand covers vs. No Hand Cov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agan, Steven Dallas Masters Thesi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us of Elementary Keyboarding:  A Longitudal Study</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arriet Roger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writing/Keyboarding Instruction in Elementary Schools</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loyd W. Bartholm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actical Considerations for the Implementation of Keyboarding</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en Bullock</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en and How Should Keyboarding Be Taught in Elementary School?</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annon Fleming 2002</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bliography</a:t>
            </a:r>
            <a:br>
              <a:rPr sz="4000"/>
            </a:br>
            <a:r>
              <a:rPr b="0" lang="en-US" sz="4000" spc="-1" strike="noStrike">
                <a:solidFill>
                  <a:srgbClr val="000000"/>
                </a:solidFill>
                <a:latin typeface="Comic Sans MS"/>
              </a:rPr>
              <a:t> Keyboarding Articles to Be Reviewed: </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wohl, Mary Jane 1989 “ What Research Says about Keyboarding Skills and Computer Anxiet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lajthy,E. 1986, 1988 Microcomputers in reading and language arts and Keyboarding, language arts and the elementary school chi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nderup, Denise 1988 Computer Keyboard Savvy</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don, Gregg; Hoggatt, Jack; Weston, Anita 1989 Puablic school administrators; perceptions concerning elementary school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iute, C. 1985 Writing and comput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rthal, Margaret 1985 The Status of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The value of keyboarding as “basic skill” is stresse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y, E. Computer keyboarding instruction for childre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 L. 1986 Keyboarding instruction in early grades: Must or mistak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ot, J.L. 1988 Keyboarding in the writing process: Concerns and issue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Jackson, T.H. &amp; Berg, D. 1986 Elementary keyboarding- is it important?</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han, J. &amp; Freyd, P. 1990 Touch typing for young children: help or hindranc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issner, E. 1984 Keyboarding A must in tomorrow’s world</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eyboarding articles to be reviewed</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lor, E.T., Algozzine, J., &amp; Daggert, W. R. 1986 Developing keyboarding skills to support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cEntee, Arthur 1994 Expanding horizons in business Educa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Pisha, B. 1987 The keyboard-communication link or communication barri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eyer, A. &amp; Rose, D 1987 The word processor: A tool for life</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w York State Education Dept. Albany Burearu of Curriculum Development 1986 Developing keyboarding skills to support the elementary language arts program</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linzock, Anthony 1998 A Computer Skill building The Answer to Keyboarding Instruction?</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wston, R. D. Murphey, S. &amp; Wideman, H. H. 1992 On and of computer writing of eighth grade students experienced in word 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igge, Lila and Braathen, Sandy 1993 Working with Elementary students in keyboard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1993 Learning Style: an analysis of factors affecting keybaording achievement of elementary school student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rmunen, Carolee; Adams, Mary Ellen; berg, Diane; and Prigge, Lila 1990 Teaching keyboarding: instructional practices of elementary school teachers</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5 Keyboarding skills: Elementary, my dear teacher?</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tzel, K. 1987 A survey of elementary students’ attitudes toward wordprocessing</a:t>
            </a:r>
            <a:endParaRPr b="0" lang="en-US" sz="1200" spc="-1" strike="noStrike">
              <a:solidFill>
                <a:srgbClr val="000000"/>
              </a:solidFill>
              <a:latin typeface="Comic Sans MS"/>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ronkovich, H. H. 1988 The relationship of early keyboard instruction to computer proficiency</a:t>
            </a:r>
            <a:endParaRPr b="0" lang="en-US" sz="1200" spc="-1" strike="noStrike">
              <a:solidFill>
                <a:srgbClr val="000000"/>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rticles from clas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acquiring keyboarding skills help students of lower socio-economic level, certain cultures, and students of blue collar parents attain the power needed to gain technology skills needed in the 21st century?  If so, how do we keep this important basic skill as part of the elementary school curriculu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 con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understand this problem and help try to solve it we need to look deeper into some facts. Most children of blue collar parents acquire blue collar work themselves, will they need technology skills for blue collar jobs in the future?  Students of certain cultures and socio-economic levels do not have computers at home.  Therefore, they are unable attain basic technology skills at home, and many schools are not teaching these basic skills starting with keyboarding.  Many schools in lower socio-economic areas do not have the equipment or the staff qualified to teach basic technology skills in the elementary schools.  Instead of teaching basic technology skills to help increase students critical thinking and knowledge building by using the technology available, an emphasis has been on  standardized testing.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s</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eyboard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dequate Keyboarding skill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to be Researched</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Keyboarding the necessary Basic skill for students to  effectively use technology to acquire 21st centur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 Students need to be taught Keyboarding Skills to Have  Successful Technology Skil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 there a relationship between good keyboarding skills and increased test scores in Reading/Language Arts due to ability to concentrate on the process of writing instead of the skill of keyboarding?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with increased reading/language arts test scores on MCAS is there a keyboarding curriculum in place?  Is it consistent over a few grade levels?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districts that have dropped their keyboarding curriculum or do consider this skill a high priority have MCAS reading/language arts scores dropped?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294840" indent="-294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 Instructional Technology Standards now include grade level competencies for keyboarding. How are we going to check to see if students are completing the grade level competenc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ed keyboarding skills leads to increased in writing skills, students don’t worry about typing skills- are able to use higher order thinking in writing process. Better finished product less spelling errors, better sentence structure, stronger thoughts in writing. Also compared to writing by hand = to many revisions students give up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ood keyboarding skills =decreased computer anxiety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rade 3-5 best grade to start instruction </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st way computer program with teacher guid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 directed - reinforcement, teaching of correct technique, personal contact, encouragement, constant monitoring(no skipping of lessons) </a:t>
            </a:r>
            <a:endParaRPr b="0" lang="en-US" sz="14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needs to be reinforce every year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  Hunt and Peck ok for short assignments catches up with longer assignments- students frustrated, anxiety, hostility and resistance to use of technology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hould begin year before using software applications that require keyboarding skill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instruction sporadic in US </a:t>
            </a:r>
            <a:endParaRPr b="0" lang="en-US" sz="20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 4 states mandated keyboarding in curriculum </a:t>
            </a:r>
            <a:endParaRPr b="0" lang="en-US" sz="1800" spc="-1" strike="noStrike">
              <a:solidFill>
                <a:srgbClr val="000000"/>
              </a:solidFill>
              <a:latin typeface="Comic Sans MS"/>
            </a:endParaRPr>
          </a:p>
          <a:p>
            <a:pPr lvl="1" marL="800280" indent="-34308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ttle evidence of systematic instruction </a:t>
            </a:r>
            <a:endParaRPr b="0" lang="en-US" sz="18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skill need to practice= more you do it better you become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ry level jobs require keyboarding skills- 50% workforce use computer in daily work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y needs to be done of schools with keyboarding and schools without keyboarding </a:t>
            </a:r>
            <a:endParaRPr b="0" lang="en-US" sz="2000" spc="-1" strike="noStrike">
              <a:solidFill>
                <a:srgbClr val="000000"/>
              </a:solidFill>
              <a:latin typeface="Comic Sans MS"/>
            </a:endParaRPr>
          </a:p>
          <a:p>
            <a:pPr marL="380880" indent="-3808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boarding too important to be left to chan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yboarding basic skill for efficient use of computers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believe students learn as they type,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tekeeper skil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t Review</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ctors with increased keyboarding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ome computer = increased keyboarding skills </a:t>
            </a:r>
            <a:endParaRPr b="0" lang="en-US" sz="20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te collar parent</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socio-economic area</a:t>
            </a:r>
            <a:endParaRPr b="0" lang="en-US" sz="1800" spc="-1" strike="noStrike">
              <a:solidFill>
                <a:srgbClr val="000000"/>
              </a:solidFill>
              <a:latin typeface="Comic Sans MS"/>
            </a:endParaRPr>
          </a:p>
          <a:p>
            <a:pPr lvl="1" marL="990720" indent="-533520">
              <a:lnSpc>
                <a:spcPct val="80000"/>
              </a:lnSpc>
              <a:spcBef>
                <a:spcPts val="45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ltural</a:t>
            </a:r>
            <a:endParaRPr b="0" lang="en-US" sz="18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Age =increased skills until after grade 7 too hard to change bad habit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ommitted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omputer for HW incr skills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st handwriting= faster keyboarding (coordination) </a:t>
            </a:r>
            <a:endParaRPr b="0" lang="en-US" sz="2000" spc="-1" strike="noStrike">
              <a:solidFill>
                <a:srgbClr val="000000"/>
              </a:solidFill>
              <a:latin typeface="Comic Sans MS"/>
            </a:endParaRPr>
          </a:p>
          <a:p>
            <a:pPr marL="609480" indent="-60948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ime on drill and practice incr skills </a:t>
            </a:r>
            <a:endParaRPr b="0" lang="en-US" sz="2000" spc="-1" strike="noStrike">
              <a:solidFill>
                <a:srgbClr val="000000"/>
              </a:solidFill>
              <a:latin typeface="Comic Sans MS"/>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9:24:32Z</dcterms:created>
  <dc:creator>Educational Technology</dc:creator>
  <dc:description/>
  <dc:language>en-US</dc:language>
  <cp:lastModifiedBy>Educational Technology</cp:lastModifiedBy>
  <dcterms:modified xsi:type="dcterms:W3CDTF">2007-05-07T17:30:45Z</dcterms:modified>
  <cp:revision>4</cp:revision>
  <dc:subject/>
  <dc:title>Keyboarding</dc:title>
</cp:coreProperties>
</file>