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35C-2559-4A77-8B48-61A22632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62-0561-4B5D-9B6E-03D46C72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8B1-309C-40D7-9B40-489A170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F63-C8E9-401B-BB0C-C4C24AA9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D18-0720-4ABA-B37A-BD41855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114-700B-435A-9A2E-6458145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B44D-CF66-4DD9-9BDF-698A8313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231-2044-415A-A43A-7AAB4F9E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40BD-F35B-4333-BA65-7F1C05E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5471-5D89-456B-8587-FDCA7944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0EF4-A7A0-414E-99CA-95B51DE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F0E-291C-4238-86EF-6ECFF48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437D-A05E-463C-9C61-A015B7F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7793-B2B0-4935-A9DA-880D557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BD12-1EB7-45E8-BCB6-B98A0D4F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388C-38D7-4B6D-A483-6D28E225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FA4A-BCE1-4435-B26A-00475F73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274-F5EE-4BF4-9446-5DD81D32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E01-1ECF-4BB8-9B29-FE52728D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302-C497-4B79-962C-EBBD435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E7E-8F30-44F0-BAC7-A26F8C2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3AB-BFED-4000-80AD-5572461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546-C113-479C-B763-AB08B1B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1A5-C008-47B4-9CE1-2F7C2419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737-F9A8-4995-84BA-5D65C575E0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B3E-DA96-4C94-87CB-8C0083F80F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cial Network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social Networking 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a website to connect with people who share personal or professional interests, place of origin, education at a particular schoo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ocial Networking Websit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book and myspace are very popular website you can use it to chat with your friends and families and other families memb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619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Good thing about Social Networ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Good thing about social networking is that you get to meet peoples that have the same thing in common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6480" y="24480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erson you should add as a frie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543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you should had has a friends is someone that you and you are really good friends with her or him and not strangers or peoples that you don’t even know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10160" y="2343240"/>
            <a:ext cx="3771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should be careful about what you type or post in the compu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be careful because bad things can happened to you and a stranger saw the Photos and started to mess around with you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67360" y="222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an you do to keep others from contacting or looking at your inform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tells someone like your families or your princecipals that  someone’s is looking at your  Personals  informat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8000" y="1828800"/>
            <a:ext cx="215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pecific information that you should not post or give o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not give out you phone number your email address or your passwords what school do you go to and what time you get home or  your house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27600" y="28954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tips that you should do if someone is making you uncomfor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tell your Parents or who ever is in charge of you or tell that persons to leave you alon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1879560"/>
            <a:ext cx="39625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38:56Z</dcterms:created>
  <dc:creator>mariedesmornes</dc:creator>
  <dc:description/>
  <dc:language>en-US</dc:language>
  <cp:lastModifiedBy>Educational Technology</cp:lastModifiedBy>
  <dcterms:modified xsi:type="dcterms:W3CDTF">2010-01-26T13:54:57Z</dcterms:modified>
  <cp:revision>5</cp:revision>
  <dc:subject/>
  <dc:title>SOcial</dc:title>
</cp:coreProperties>
</file>