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658-3EA5-42F5-A6AB-092EBFF6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D91-41DA-4500-8D01-F4155B56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AC0-F45A-4E47-A2BB-6988F0B4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344-DC13-42FD-A416-984AA576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5AA5-D459-4CF1-9640-212D60B9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DD87-60F8-42BF-A393-DC666F4F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AD3B-88A5-4CBA-A3B9-EAFEC9C2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67A0-60C4-4775-8D07-38746053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5E01-0DE9-4F1B-B201-A7731B58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F214-007B-47CE-AA23-0DF1B9D3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5770-C8A8-4FCE-A8BB-CF623888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992-6259-4F66-84BD-0DC585D9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A187-746E-4AA4-B689-6FCF99A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C9A5-2C09-45A2-AE19-1230B012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D3F-3256-411D-8D18-D9DF0AFA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B5D4-E909-4831-BC00-4EF5D830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799C-732A-43AF-87C9-32A36C9F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D13-18D7-41F7-8BEF-92E2F480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A25-DD2C-4592-89C8-DD2A4FA1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60E-83B3-4802-82B1-22C157BF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C3C-EFB4-4364-8BCD-6B987BEF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C6F-DC2D-4EE0-9E73-4EAABAE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1C3-78DA-49C6-AFB3-AC601A8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97A-71D2-495A-B672-05F5AA1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A654-73E3-4F26-96BF-C3C8CE963D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0CD8-4D4D-4A56-89F2-1D8D61F59C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cial Network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social Networking 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a website to connect with people who share personal or professional interests, place of origin, education at a particular school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ocial Networking Websit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ebook and myspace are very popular website you can use it to chat with your friends and families and other families membe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619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Good thing about Social Networ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Good thing about social networking is that you get to meet peoples that have the same thing in common as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6480" y="2448000"/>
            <a:ext cx="3619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erson you should add as a frie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3543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that you should had has a friends is someone that you and you are really good friends with her or him and not strangers or peoples that you don’t even know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10160" y="2343240"/>
            <a:ext cx="3771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should be careful about what you type or post in the comput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be careful because bad things can happened to you and a stranger saw the Photos and started to mess around with you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67360" y="22287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an you do to keep others from contacting or looking at your inform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tells someone like your families or your princecipals that  someone’s is looking at your  Personals  informatio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8000" y="1828800"/>
            <a:ext cx="215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pecific information that you should not post or give o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not give out you phone number your email address or your passwords what school do you go to and what time you get home or  your house numb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27600" y="2895480"/>
            <a:ext cx="1463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tips that you should do if someone is making you uncomfort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tell your Parents or who ever is in charge of you or tell that persons to leave you alon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24280" y="1879560"/>
            <a:ext cx="39625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38:56Z</dcterms:created>
  <dc:creator>mariedesmornes</dc:creator>
  <dc:description/>
  <dc:language>en-US</dc:language>
  <cp:lastModifiedBy>Educational Technology</cp:lastModifiedBy>
  <dcterms:modified xsi:type="dcterms:W3CDTF">2010-01-26T13:54:57Z</dcterms:modified>
  <cp:revision>5</cp:revision>
  <dc:subject/>
  <dc:title>SOcial</dc:title>
</cp:coreProperties>
</file>