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575B-ACC5-4ECA-B858-B208F833E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3716-5426-4F81-B018-374C4DC41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2770-A7CC-48A1-A332-200822BEA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9955-4550-4A3C-AF82-AE4FD7BC7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A4FDB-665E-43D9-948A-73F5A6121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63609-9818-4EC7-A2C0-80E132F28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A1036-677D-43F7-BEBA-8E55622C7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69AC6-4037-4559-B41A-458AC0F17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A2BC3-D483-4F0F-9EE5-85010D90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C7357-1DA5-4D51-8C84-2B094FB91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B041F-3504-4347-807B-F34D7C74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30D1-27C9-46A6-B06E-1D07874CB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53A59-B04F-449F-9A8E-B0E512B1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0E530-DF96-46FB-A736-E6B64E85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34922-6C7F-4138-98AC-AF96AF2F7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09F0E-66E7-4E5E-A2D6-3A9281E09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4BCF9-D678-4DA1-BD25-A695B5DD7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7D1C-2190-4B82-BA6B-B67ABBE45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A51B-DEEF-468D-B1AC-C1D31E0C6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3EFD-87D2-41DE-BC82-13AF1B947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671F-3CE9-44A3-9FC7-486B9CF68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CF20-05A2-4073-BE97-A63DD3E1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27DC-024F-4651-9B43-C7FE7F79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7B5C-7567-4918-83B6-78434861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4EE57-0F66-4F3A-9371-64AF248DDFE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7CBAF-7BAB-439B-A9B3-278DF04AC9A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ocial Networking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ri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a social Networking  Websi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use of a website to connect with people who share personal or professional interests, place of origin, education at a particular school, etc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610160" y="2243160"/>
            <a:ext cx="377172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Social Networking Website exam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cebook and myspace are very popular website you can use it to chat with your friends and families and other families members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609800" y="1828800"/>
            <a:ext cx="3771720" cy="36576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572000" y="2133720"/>
            <a:ext cx="36194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ne Good thing about Social Network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e Good thing about social networking is that you get to meet peoples that have the same thing in common as yo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686480" y="2448000"/>
            <a:ext cx="361944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erson you should add as a frien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42640" y="1828440"/>
            <a:ext cx="3543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erson that you should had has a friends is someone that you and you are really good friends with her or him and not strangers or peoples that you don’t even know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610160" y="2343240"/>
            <a:ext cx="377172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ou should be careful about what you type or post in the compute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should be careful because bad things can happened to you and a stranger saw the Photos and started to mess around with you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067360" y="222876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can you do to keep others from contacting or looking at your inform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can tells someone like your families or your princecipals that  someone’s is looking at your  Personals  information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418000" y="1828800"/>
            <a:ext cx="2156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specific information that you should not post or give ou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should not give out you phone number your email address or your passwords what school do you go to and what time you get home or  your house numb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727600" y="2895480"/>
            <a:ext cx="14637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ome tips that you should do if someone is making you uncomfortabl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should tell your Parents or who ever is in charge of you or tell that persons to leave you alone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724280" y="1879560"/>
            <a:ext cx="396252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8:38:56Z</dcterms:created>
  <dc:creator>mariedesmornes</dc:creator>
  <dc:description/>
  <dc:language>en-US</dc:language>
  <cp:lastModifiedBy>Educational Technology</cp:lastModifiedBy>
  <dcterms:modified xsi:type="dcterms:W3CDTF">2010-01-26T13:54:57Z</dcterms:modified>
  <cp:revision>5</cp:revision>
  <dc:subject/>
  <dc:title>SOcial</dc:title>
</cp:coreProperties>
</file>