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CDB-9A9F-46C1-A72B-EA78857A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478-068B-4CEC-B2F5-EB83A05F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1A2-1406-4050-8EAE-A0D196DC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236-D9EF-4B47-95B4-0E058BC8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57FA-B30F-4B56-8F43-7C5B6AAE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DFBB-6FEE-4754-8C0C-C33661A3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69E5-5662-44C6-8FCA-C9923D4E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0864-75D0-4104-9110-FD0F692B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385E-0852-454D-9E14-CE7E6415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E0EF-2ACA-451C-B327-67E0E047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E8C1-3B51-4098-A52F-88A7EFE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71A-C0D0-4CDC-B021-6F9F9DCD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265D-0F98-4F28-93EF-EE306B84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245F-E743-4AF7-98FB-AD06066A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C212-A444-4BB6-9C6D-4D7D109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6CFA-4207-415D-9F5A-EA43D719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2393-5428-4ED6-9B90-52771B8C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146-AC4C-4264-BA6D-0C384E5D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507-0E9E-49C7-AD22-54BB66D4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A23-2802-4EB9-85CF-D6F1B9F2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D5E-8E95-4B97-9AC7-038AF7E3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ACD-7283-4787-87D2-55AAD50D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75B-5075-4B24-8E09-FCC9A7BE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C45-4354-41D1-8FB8-F978B479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2E5B-35FA-4BD8-8F9A-DD2C60714F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0B55-DD8C-4F37-AABE-D18C2D5DB93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cial Network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social Networking 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a website to connect with people who share personal or professional interests, place of origin, education at a particular school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ocial Networking Websit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ebook and myspace are very popular website you can use it to chat with your friends and families and other families member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3619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Good thing about Social Networ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Good thing about social networking is that you get to meet peoples that have the same thing in common as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86480" y="2448000"/>
            <a:ext cx="36194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erson you should add as a frien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3543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son that you should had has a friends is someone that you and you are really good friends with her or him and not strangers or peoples that you don’t even know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10160" y="2343240"/>
            <a:ext cx="37717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should be careful about what you type or post in the comput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be careful because bad things can happened to you and a stranger saw the Photos and started to mess around with you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67360" y="22287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an you do to keep others from contacting or looking at your inform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tells someone like your families or your princecipals that  someone’s is looking at your  Personals  information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418000" y="1828800"/>
            <a:ext cx="215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pecific information that you should not post or give ou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not give out you phone number your email address or your passwords what school do you go to and what time you get home or  your house numb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27600" y="2895480"/>
            <a:ext cx="1463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tips that you should do if someone is making you uncomfort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should tell your Parents or who ever is in charge of you or tell that persons to leave you alon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24280" y="1879560"/>
            <a:ext cx="39625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38:56Z</dcterms:created>
  <dc:creator>mariedesmornes</dc:creator>
  <dc:description/>
  <dc:language>en-US</dc:language>
  <cp:lastModifiedBy>Educational Technology</cp:lastModifiedBy>
  <dcterms:modified xsi:type="dcterms:W3CDTF">2010-01-26T13:54:57Z</dcterms:modified>
  <cp:revision>5</cp:revision>
  <dc:subject/>
  <dc:title>SOcial</dc:title>
</cp:coreProperties>
</file>