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46A82-9A8E-4AF7-856A-02D428B3B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F3002-875C-4F8C-BA9E-A73E43B2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216D4-E269-41EF-B36B-FB2457066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23C5C-2DA3-4B2E-B6F9-E6D941F9B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522B-F1AE-4560-99ED-BAA4DD62C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8C11D-205E-4826-9315-2B029EA8E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BF76B-9544-479B-BDE5-FCA4C5AF4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555D8-CCF4-481D-9A07-E1CB34E2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A1680-6EE6-4075-A414-1056137A9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09FD-7B5C-40CE-9CE0-E092A756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38C1-08E8-4DAC-94B1-A78633CA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82021-AAF0-400D-881C-A2930323E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4C00-7201-497A-82F3-A90277BFC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side Front Cover must be an attention grabber ... it should capture the attention of your target audience, arouse sufficient interest to want to pick it up and open it.</a:t>
            </a:r>
            <a:br>
              <a:rPr sz="2800"/>
            </a:br>
            <a:r>
              <a:rPr b="0" lang="en-US" sz="2800" spc="-1" strike="noStrike">
                <a:solidFill>
                  <a:srgbClr val="000000"/>
                </a:solidFill>
                <a:latin typeface="Arial"/>
              </a:rPr>
              <a:t>(Hint: this is one place for word art!)</a:t>
            </a:r>
            <a:br>
              <a:rPr sz="2800"/>
            </a:br>
            <a:r>
              <a:rPr b="0" lang="en-US" sz="2800" spc="-1" strike="noStrike">
                <a:solidFill>
                  <a:srgbClr val="000000"/>
                </a:solidFill>
                <a:latin typeface="Arial"/>
              </a:rPr>
              <a:t>Picture of product</a:t>
            </a:r>
            <a:br>
              <a:rPr sz="2800"/>
            </a:br>
            <a:r>
              <a:rPr b="0" lang="en-US" sz="2800" spc="-1" strike="noStrike">
                <a:solidFill>
                  <a:srgbClr val="000000"/>
                </a:solidFill>
                <a:latin typeface="Arial"/>
              </a:rPr>
              <a:t>Title</a:t>
            </a:r>
            <a:br>
              <a:rPr sz="2800"/>
            </a:br>
            <a:r>
              <a:rPr b="0" lang="en-US" sz="2800" spc="-1" strike="noStrike">
                <a:solidFill>
                  <a:srgbClr val="000000"/>
                </a:solidFill>
                <a:latin typeface="Arial"/>
              </a:rPr>
              <a:t>Company inf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YOUR PRODUCT 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nformation about cost, usefulness, and why someone should buy you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How many do you have in st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Prices, Typ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 from a satisfied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name &amp; Lo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29:25Z</dcterms:created>
  <dc:creator>Educational Technology</dc:creator>
  <dc:description/>
  <dc:language>en-US</dc:language>
  <cp:lastModifiedBy>Educational Technology</cp:lastModifiedBy>
  <dcterms:modified xsi:type="dcterms:W3CDTF">2010-02-23T14:29:50Z</dcterms:modified>
  <cp:revision>1</cp:revision>
  <dc:subject/>
  <dc:title>The Outside Front Cover must be an attention grabber ... it should capture the attention of your target audience, arouse sufficient interest to want to pick it up and open it. (Hint: this is one place for word art!) Picture of product Title Company info </dc:title>
</cp:coreProperties>
</file>